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190-F3FC-45B4-85F1-85A78E56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C4C-62A4-4E2A-A24E-2A7C7AB9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9F83-7ACC-4796-8AD1-C778A994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4C2-CF6D-4AB6-9649-330AD557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01CA-86DC-45C6-BA58-D69D112A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6D33-F1F1-469A-9649-55FAF4E6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535-B508-4EAF-BEBF-92C96861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E7E3-AF6A-4CF8-A3CA-80F2B227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7C40-A1AD-4AB7-A35A-54BAF60E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8BC-0831-49C7-B18D-14E70A9A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B72-5233-4745-8171-B4B1FF6E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37D-83E8-40D7-8DD0-45421EB3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1103-000B-4760-A790-9564015D4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hyper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990720" y="609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hyper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hyper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hyperlink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20:36:21Z</dcterms:created>
  <dc:creator>KU KU</dc:creator>
  <dc:description/>
  <dc:language>en-US</dc:language>
  <cp:lastModifiedBy>KU KU</cp:lastModifiedBy>
  <dcterms:modified xsi:type="dcterms:W3CDTF">2008-06-04T20:40:54Z</dcterms:modified>
  <cp:revision>1</cp:revision>
  <dc:subject/>
  <dc:title>This is a hyperlink</dc:title>
</cp:coreProperties>
</file>